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4318-0A31-495E-B2CA-29283CE62E2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9DFA-6B8D-4DCC-BBC0-406FF91B6A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1CF2-80B5-4C2F-B3CE-47CB179A99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FBBC-F0A3-497D-A4CE-BE90033308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W Anglii przy powitaniu nie jest dobrze widziane wpadanie sobie w ramiona, w Japonii natomiast – podawanie ręki, w krajach arabskich – patrzenie w o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4977-B1E5-49B7-9546-8A43B36C8E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B315-B35E-432D-898F-BC15C0F67F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ACBB-98B4-42CE-A906-01BC876808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AB2D-0F34-46FE-979C-E83784426A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A639-2C48-4F2A-B4E3-B7DB777A15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37F7-D55F-47D5-88F0-462A2F7435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D557-1279-4D96-9EC2-E5C53B2A13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99CB-6D03-4DB9-A021-EC5840EA6A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040A-EFD4-4A44-802F-052DD7F2AB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y organizacja działała ludzie muszą współpracować. Pracownicy mają względem siebie różne potrzeby i różne zobowiązania, angażują się w proces wymiany usług, są dla siebie zarówno klientami jak i usługodawcami. Wzajemne traktowanie siebie jako klientów inspiruje do uświadomienia ogólnych potrzeb organizacyjnych dla poprawy efektywności dział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6675-273A-4927-896E-5D877237D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D834-413E-49FD-85D0-431F823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2428-D7BA-42DB-A40F-65E2E26B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9879-A5D7-4093-9671-FF597DD1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721C-AE7D-44B4-B2DD-C3574C81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FD28-1E7B-4904-8CF6-5005C257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AAD2-7D5D-4785-B510-0906387F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7230-6481-43EB-B3AA-7FFE9308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9F53-7243-4C34-8210-1B8570A1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9881-841E-4329-A0CB-3DD6BB6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10B8-AF5C-4B5E-A52A-C61C8E7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4B49-4091-4EA9-84E7-CDE3DECDB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4EE71-BC61-40F5-92C2-80B6497D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DDCAC-C9F0-49DA-9C3B-62E56011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339A0-AF5F-481F-87F1-3939C85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F8548-CFE5-4A9B-9F64-3D10214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07A58-7AE7-4C80-BA86-3B63589A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F34E7-179C-4176-93FF-618321B9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FA11B-18BF-4B04-9174-0EEC5E39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31007-C517-4F5A-AA61-6AE1ED9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F8C28-8310-494A-A16F-25EF69C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C52D-1EB2-4D0C-82FE-F912B34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174D6-E5AD-466C-96C8-098A0416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0FAF2-1322-4A57-A53D-30BECEFB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67AD1-529D-4476-B0A0-44A9982F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19780-457D-47A8-8637-14CAA8C9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1D479-892D-462B-94D7-9E3F5D7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48E5E-0D83-40D1-8646-5AE1D952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F49CF-FDD0-48FE-AF3D-75133AFA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49985-77DF-4BAA-A0BB-373A51F9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FC4AD-6977-469D-9320-FE4AB1D3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617AC-4712-4796-9FAF-3068A47F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28701-531C-444C-8ACE-0A217E1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B3A2F-DE2E-43A5-AB2C-201F1927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D728B-3726-4010-96D0-EB283BA4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373E7-EAE8-4023-A617-A38A08DC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7153D8-C64D-43E0-BD60-6D2C1B06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8F4181-9DAC-47BD-A8BA-CE1E613B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D8B623-78C2-4620-867C-79AA76B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0D760-8F04-4308-AE63-22AF8969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1994B-62B5-4C32-B651-585C58E3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4A3E8A-031A-42FD-B074-996512A0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A1099-4498-420B-BF0B-6CC2692E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5CA8D3-EAC8-42E9-BED8-D3FEF2B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5FC10A-5AEC-4D39-8B79-90F1751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F77399-0474-4F0F-A2A5-1EA28D1D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2BBB3B-5690-46DE-96BE-839E321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68CE4-6D9F-4F48-AFEE-980FA311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250560-D1DA-49A0-8309-9D485501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45A3B5-3FA3-4FF3-906B-D4868946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B9C5B-5731-4F37-A92A-5DB7A6A8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4D361-1300-4873-AEDB-059A9FD6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96E426-57B1-4E6F-9114-133FD2B3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41AA7C-44D1-4E80-B496-188D9C6A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EDE2A-B97F-42B5-9BB6-C24465A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332BB-5278-495E-B7E2-ABB6142E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4DB52E-577F-4DDD-AFE0-2D0A3F3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3513E-2E68-4D19-9622-449F3754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D457C-5DF5-434C-AD52-DE503E13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616073-FD46-4701-8658-B59E878B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5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6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49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10"/>
          <p:cNvSpPr/>
          <p:nvPr/>
        </p:nvSpPr>
        <p:spPr>
          <a:xfrm>
            <a:off x="7380360" y="6237360"/>
            <a:ext cx="1511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9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9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"/>
          </p:nvPr>
        </p:nvSpPr>
        <p:spPr>
          <a:xfrm>
            <a:off x="446040" y="6230520"/>
            <a:ext cx="130824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2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2BA4-C4B6-45A7-906B-547D8B9E902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42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5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8974-92F3-4898-BA1C-04EDC7873CD3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90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8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FC8A-7504-4A4C-A855-13F6C7D0B438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38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8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2D62-D3BE-4B0E-8C94-65AA6FF03506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333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41A4-7EC3-4467-9DF8-B9666E6BD466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profesjonalnej obsługi klienta. Szkolenie dla pracowników Kancelarii Ogólnej Lubuskiego Urzędu Wojewódzkiego w Gorzowie Wielkopol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minując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ja tutaj rozdaję karty”, gdzie urzędnik ma ostatnie, decydujące sło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legł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klient nasz pan i może wszystk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artners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obie strony mają swoje prawa i obowiązki, a zasadą jest „klient nasz partne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32C0-FD87-44DB-ADE5-18F9BCB975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dele relacji urzędnik - k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CA9-7C14-474F-A31F-08FC5C493D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92888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5E0E-4424-4F34-8337-34198085E4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ypy klientów - filozo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1201680"/>
            <a:ext cx="853452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ów ze względu na cechy znajdujące wyraz w ich zachowaniach można podzielić na określone ty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wg zachow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DEA3-5CC1-4446-8A3C-EB2320F3CE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jawnia się atakują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gwałto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obraża i zastras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ombarduje bezlitosną krytyk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hołduje zasadzie, że poniżanie innych świadczy o jego własnej 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D21E-7FDF-434D-993E-E3D54B3BFB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ciąż narzeka na wszystko wokó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ecjalizuje się w znajdywaniu wad we wszyst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robiazg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rzekonany o własnym perfekcjonizmie, szuka dziury w prac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30B3-200C-422F-B54F-D2357C9025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44792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odważa i krytyk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wielbia niweczyć i deprecjonować wszystko co zostało powiedzi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zgorzkniały, sceptyczny i sarka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uf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A506-CC6E-412D-BC90-993A3858D8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447920"/>
            <a:ext cx="85345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pewny swoich racji, lubi być w centrum uwa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ywa despotyczny lub przekonywują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raktuje swoich rozmówców jak dzieci, próby dyskusji wydają się być bezce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minuje podczas rozmów, traktując siebie jak eksperta w danej dziedzi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3AD9-65DE-4FEB-8684-64528F4257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714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problemy z wyrażaniem własnych myśli, pragnień i opi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łabo daje sobie radę ze stresem, ociąga się, spóź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kłopoty z podejmowaniem decyzji, odkłada je na późni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ądzi, że jego zdanie się nie lic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02C-0045-45B1-BFE4-B072B48451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rawia wrażenie rozsądnego, wiern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lubi być w centrum uwagi, chce być przyjacielem każd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 zawsze dotrzymuje słowa, potrafi zawieść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wcipny, konflikty z innymi łagodzi poczuciem humo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DEC8-DB29-413A-BFAB-5E3A6D41C8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wartość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9583-762D-440F-BF97-9EB41506F1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533520" y="1071720"/>
          <a:ext cx="8458200" cy="4728960"/>
        </p:xfrm>
        <a:graphic>
          <a:graphicData uri="http://schemas.openxmlformats.org/drawingml/2006/table">
            <a:tbl>
              <a:tblPr/>
              <a:tblGrid>
                <a:gridCol w="2027160"/>
                <a:gridCol w="6431040"/>
              </a:tblGrid>
              <a:tr h="5540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 klienta ukierunkowany n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ażniejsze zalec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ybkie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uj najszybszą ścieżkę postępowania. Podkreślaj znaczenie działań klienta, które przyspieszą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ór możliw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dstaw wszystkie możliwe sposoby załatwienia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jaśnij konsekwencje przyjęcia danego sposobu postępowania (np. czas trwania, tryb rozpatrywania, możliwość odwołania się itp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jalne proble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słuchaj obaw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rezentuj powiązanie proponowanych czynności z punktu widzenia bezpieczeństwa załatwienia sprawy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ługuj się przykładami innych klientów (bez ujawniania danych personal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wołuj odpowiednie przepisy i proced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kazuj klientowi miejsca, w których może znaleźć opisy sposobów załatwiania tego typu spra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aj o doświadczenia klienta w danej spraw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rzystuj (parafrazuj wypowiedzi klie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wal, jeśli to, co robił w podobnej sprawie poprzednio, było właści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DB66-4C41-440B-BBDC-AED64D0DCE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7840" y="456840"/>
            <a:ext cx="8072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4909-3218-4E61-9A69-CCF7596FA4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o i kiedy jest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mająca potrzeb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spełniająca wymagane kryteria określone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możliwości sytu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ABD8-6D79-4FCA-B053-86779ED522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można wykazać klientowi, że się o niego troszczymy, że jest dla nas waż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przez kulturę obsługi, która jest ważnym elementem kultury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FC21-30ED-4D66-97C6-34D6CE1A13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10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leży być dla klien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trzeb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pierając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mpatyczny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do zastą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4041-0440-47E5-8978-8CFAD76369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chowanie kultural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zachowanie uwzględniające model świata drugiej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strzeganie zasad własnej kultury nie gwarantuje nam przychylnej oceny ze stron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uzyskać pozytywną ocenę, należy znać zasady kulturowe osób oceniając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E6EF-08E2-4319-ADB1-FEA8882D80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ejście do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8360" y="1447560"/>
            <a:ext cx="84470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wykazuje znajomość faktów, możliwości i gdy to możliwe histori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jest nastawiony na załatwienie sprawy i satysfakcję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używa odpowiednich, dopasowanych do klienta sformułow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20FD-27FA-40BD-A296-D3FBA3DDE6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obsługując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066320"/>
            <a:ext cx="844704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mie słucha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i pozytywne wrażenie, jest komunikatywna, profesjonalna w kontaktach interpersona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pogodna i pozytywnie nastawi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wytrzymała psychicznie, aserty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zuje się wysoką kulturą osobist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C13F-C17B-4337-B225-43571E7CC7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Świadome i celowe wywieranie wpływu oraz obrona przed manipulacją jako podstawowa kompetencja  w relacjach z klien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zyscy wywieramy wpływ i jesteśmy pod wpływem innych, choć tylko niektórzy i tylko czasami są tego świad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49DC-151B-44E0-9C43-434DC846E2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33164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KREŚLIĆ (i pamiętać), że jest się reprezentantem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ZIĘKOWAĆ za informacje, które np. pomogą usprawnić nasze dział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KLAROWAĆ, że po zajmiemy się tą sprawą zgodnie z potrzebą klienta przy zachowaniu wymagań wynikających procedur określonych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352-D5D1-4F04-9422-DDE1014D07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C8E3-F07D-4E14-84DA-B4231F9B43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255320"/>
            <a:ext cx="8686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WOŁYWAĆ SI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zakładanej wiedzy klien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dokument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IEDZIEĆ to samo w inny sposób, jeśli klient nie rozu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OWAĆ niezbędne informacje podawane przez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ÓWIĆ tonem grzecznym, nieprzepraszającym, w którym przebrzmiewa chęć znalezienia rozwiązania zaistniałej sytuacji oraz w którym słychać uśmi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245-A04C-4850-894B-5B0A9BDCB4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ego nie warto robić w rozmowie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3273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poza swoje kompeten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od negatyw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rzepraszać bez poznania fa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uczać w kwestach innych niż procedura przeprowadzenia spra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reagować na zaczep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dać się wciągnąć w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spoufalać si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D48C-97D8-46A2-BA9E-94257A30DD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kuteczne formy język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123720" y="2057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otrz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korzy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erswa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C1A7-7DB2-4C47-9AEC-E630781CA8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595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ości i umiejętności należące do dobrej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5559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daje świadectwo dla pracy usługodawcy. Aby sobie zapewnić jego dobrą ocenę, wskazane jest prezentować odpowiednią postawę i wynikające z niej działania w oparciu o konieczne umiejęt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827B-0E90-4EB7-9529-03134DC26E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2453-5E24-491F-BE44-67DEA48A11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klient pozyskuje ocenę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1295280"/>
            <a:ext cx="8381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wyraża potrzeby, których nie możemy zaspokoić, poniewa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nie rozumi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zasob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kompeten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niezgodne z naszym systemem wartośc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ynikającymi z niego standard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7449-B371-42A9-894B-6F03F90FFF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w relacji z klientem zależne są 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u klienta i typu urzędnika (niekompatybilność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fesjonalizmu urzę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tuacji w której zjawił się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dzajem załatwianej spra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wydolności procesu komunikacji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rzeczności interesów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B716-A09E-4F99-9E0A-09762AB8F0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pojawić się w każdym z trzech obszaró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33160" y="17524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uć i emo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l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kona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96B-5DC0-4A0C-BE65-3270DDE1D0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wynikać 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tualnego szczególnego obszaru skupienia uwa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rsonalnych metamodeli postępowani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budzonych, społecznie akceptowalnych, norm postępowania u klien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DB7-DDAD-47ED-9D1D-8859E5653D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pomaga w rozpoznaniu powodów, dla których odbieramy klienta jako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09120" y="1752480"/>
            <a:ext cx="67820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a obserw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e słuch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owe zadawanie pyt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CD28-7655-4BEF-860C-D0672D7A27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stalanie, kto jest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3000"/>
            <a:ext cx="89154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ient to ten, kto ma potrzeby, które my możemy zaspokoi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 zasoby, które mogą zaspokoić nasze potrze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potrzeby mogą być zaspokojone przez produkty/usługi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takie potrzeb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są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zasoby mogące zaspokoić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Grupa 20"/>
          <p:cNvGrpSpPr/>
          <p:nvPr/>
        </p:nvGrpSpPr>
        <p:grpSpPr>
          <a:xfrm>
            <a:off x="609480" y="3840120"/>
            <a:ext cx="8282160" cy="1555920"/>
            <a:chOff x="609480" y="3840120"/>
            <a:chExt cx="8282160" cy="1555920"/>
          </a:xfrm>
        </p:grpSpPr>
        <p:sp>
          <p:nvSpPr>
            <p:cNvPr id="395" name="Oval 5"/>
            <p:cNvSpPr/>
            <p:nvPr/>
          </p:nvSpPr>
          <p:spPr>
            <a:xfrm>
              <a:off x="6782040" y="412956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>
              <a:off x="60948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609480" y="443448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2793600" y="4308120"/>
              <a:ext cx="582120" cy="582840"/>
            </a:xfrm>
            <a:prstGeom prst="plus">
              <a:avLst>
                <a:gd name="adj" fmla="val 404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5705640" y="4232520"/>
              <a:ext cx="946440" cy="694080"/>
            </a:xfrm>
            <a:custGeom>
              <a:avLst/>
              <a:gdLst>
                <a:gd name="textAreaLeft" fmla="*/ 148680 w 946440"/>
                <a:gd name="textAreaRight" fmla="*/ 828360 w 946440"/>
                <a:gd name="textAreaTop" fmla="*/ 173520 h 694080"/>
                <a:gd name="textAreaBottom" fmla="*/ 520560 h 69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5640" bIns="356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7088760" y="4253400"/>
              <a:ext cx="160164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3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lient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856800" y="3962880"/>
              <a:ext cx="20383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682200" y="4756680"/>
              <a:ext cx="19670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3"/>
            <p:cNvSpPr/>
            <p:nvPr/>
          </p:nvSpPr>
          <p:spPr>
            <a:xfrm>
              <a:off x="352152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"/>
            <p:cNvSpPr/>
            <p:nvPr/>
          </p:nvSpPr>
          <p:spPr>
            <a:xfrm>
              <a:off x="3521520" y="4496040"/>
              <a:ext cx="211104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3740040" y="3996000"/>
              <a:ext cx="17470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3521520" y="4800960"/>
              <a:ext cx="21841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2A81-E48F-4544-BC13-35249DF7EE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adzić sobie z narastającymi negatywnymi emocjam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dzielić siebie od pełnionej funkcji – uświadomić sobie i w pełni przyjąć, ż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ient mnie nie zna (jako człowieka), więc choćb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tego powodu jego negatywne opinie nie mogą być skierowane do m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naczącej większości przypadków nie jestem przyczyną jeg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C019-6234-4290-B5F0-E238C6598C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stawa empatyczna i zasadnie asertywna w radzeniu sobie z trudnym klientem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7524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czym polega postawa empatyczna i zasadna asertywnoś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sertywne wyznaczanie granic i odmow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oparciu o znajomość procedur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587-91B4-4C59-9B2F-1606E53F55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m jest kl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osoba, której potrzeby zaspokajane są przez dostarczone przez urząd produkty/usługi. Koszty dostarczenia produktu/usługi ponosi klient poprzez opłaty. W przypadku świadczeń bezpłatnych ich koszty pokrywane są budżetu (pośrednio przez klientów, którzy jako podatnicy zasilają budżet państw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każdy, z kim wchodzimy w interakcję transakcji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24A-F896-480D-8AD2-7271E91CE0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gólnie o relacjach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8360" y="1403280"/>
            <a:ext cx="8447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żdy proces wymiany ma charakter transakcji polegającej na wymianie wartości (nie tylko materialny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E614-3804-4702-B145-CECE9A9E81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ces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jest odbiorcą naszego produktu/usługi, który otrzymuje w procesie nazywanym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obsługą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005F-6C25-44D3-A155-8ABA07A5F7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z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tosunku do interesantów urzędu mówimy o kliencie zewnętrznym, który je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miotem działalnośc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biorcą produktów/usług świadczonych zgodnie z ustawowymi zadaniam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o jego potrzebach i kierunków koniecznych zmian/innow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opinii kształtujących wizerunek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0600" indent="-21852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DC76-B0E8-4768-B096-4ABC3BAFE6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w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479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w urzędzie wymaga współdziałania z innymi pracownikami. W takim przypadku powinniśmy traktować ich również jako klientów, którzy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nerem w realizacji celów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do analizy potrzeb organiz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DCBF-0FDE-4630-8D83-D5A35D72B8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2-05-04T12:36:54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